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ED8-C4FE-451D-9B47-8FD562B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368-3236-48E4-B3C1-BFFBF3D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F06-884B-4857-93F6-2A89ABA6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7E8E-33F8-4B67-86FF-86E4AA2D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20E-254D-468D-980A-CCB8FFA1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666-83F8-49F8-A88F-7AACE78E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986-41DF-4FF4-9094-8C624AF9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A91-8794-406B-9DDB-130EC09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BAB-C55E-4B66-88D8-829D7E9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361-01AA-48F1-9049-73B672D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49C-78C5-405F-AD71-A2402CE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E3E-D0CB-46A4-9F12-1BA2B0D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EA31-44E3-445B-A095-72680CD84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DB: A Generic Insertional Mutagenesis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00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kang Pan and Lincol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stribution" descr=""/>
          <p:cNvPicPr/>
          <p:nvPr/>
        </p:nvPicPr>
        <p:blipFill>
          <a:blip r:embed="rId1"/>
          <a:stretch/>
        </p:blipFill>
        <p:spPr>
          <a:xfrm>
            <a:off x="565200" y="771480"/>
            <a:ext cx="801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DB Futur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s for phenotype and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gene ontology, plant ontology, trait ontology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chema for Phenotype and Gene Ex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1480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19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724280"/>
            <a:ext cx="14479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76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63868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562720"/>
            <a:ext cx="12193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2860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9718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6483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14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81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0960" y="4648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680" y="2895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572000"/>
            <a:ext cx="2210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28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5181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429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240" y="26665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60020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733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69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38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Hong Liu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r postdoc in Stein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080" y="2438280"/>
            <a:ext cx="29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Innes Centre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ke Be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Jonathan Cl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sequenced insertion sites for model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users with useful tools to search for insertions in gene of interest and to track progress of the multinational effort to find insertions in each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the study of insertion site distrib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Mapp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0574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-BLA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267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op hit with sc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410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ertion site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4100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it to a clone &amp;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3276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R genome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796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8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3352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 pseudo-chromos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670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 Sche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520" y="1984320"/>
            <a:ext cx="1585800" cy="711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2096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124080"/>
            <a:ext cx="1363680" cy="58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76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54840" y="316692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8880" y="335448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8520" y="5294160"/>
            <a:ext cx="1511280" cy="53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2320" y="5456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8520" y="4289400"/>
            <a:ext cx="151128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9748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nking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7680" y="4289400"/>
            <a:ext cx="13590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916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1160" y="4476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4840" y="428940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840" y="44766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0" y="2576520"/>
            <a:ext cx="1577520" cy="623160"/>
            <a:chOff x="2286000" y="2576520"/>
            <a:chExt cx="1577520" cy="623160"/>
          </a:xfrm>
        </p:grpSpPr>
        <p:sp>
          <p:nvSpPr>
            <p:cNvPr id="78" name=""/>
            <p:cNvSpPr/>
            <p:nvPr/>
          </p:nvSpPr>
          <p:spPr>
            <a:xfrm flipV="1">
              <a:off x="2286000" y="2606760"/>
              <a:ext cx="1496880" cy="5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4800" y="2576520"/>
              <a:ext cx="108720" cy="626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64" y="91"/>
                  </a:moveTo>
                  <a:lnTo>
                    <a:pt x="139" y="0"/>
                  </a:lnTo>
                  <a:lnTo>
                    <a:pt x="0" y="8"/>
                  </a:lnTo>
                  <a:lnTo>
                    <a:pt x="6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3733920"/>
            <a:ext cx="99720" cy="532440"/>
            <a:chOff x="1676520" y="3733920"/>
            <a:chExt cx="99720" cy="532440"/>
          </a:xfrm>
        </p:grpSpPr>
        <p:sp>
          <p:nvSpPr>
            <p:cNvPr id="81" name=""/>
            <p:cNvSpPr/>
            <p:nvPr/>
          </p:nvSpPr>
          <p:spPr>
            <a:xfrm flipV="1">
              <a:off x="1725480" y="3817440"/>
              <a:ext cx="10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3733920"/>
              <a:ext cx="99720" cy="87480"/>
            </a:xfrm>
            <a:custGeom>
              <a:avLst/>
              <a:gdLst/>
              <a:ahLst/>
              <a:rect l="l" t="t" r="r" b="b"/>
              <a:pathLst>
                <a:path w="124" h="98">
                  <a:moveTo>
                    <a:pt x="124" y="98"/>
                  </a:moveTo>
                  <a:lnTo>
                    <a:pt x="61" y="0"/>
                  </a:lnTo>
                  <a:lnTo>
                    <a:pt x="0" y="98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06680" y="4546440"/>
            <a:ext cx="1131840" cy="78120"/>
            <a:chOff x="2506680" y="4546440"/>
            <a:chExt cx="1131840" cy="78120"/>
          </a:xfrm>
        </p:grpSpPr>
        <p:sp>
          <p:nvSpPr>
            <p:cNvPr id="84" name=""/>
            <p:cNvSpPr/>
            <p:nvPr/>
          </p:nvSpPr>
          <p:spPr>
            <a:xfrm>
              <a:off x="2506680" y="4584600"/>
              <a:ext cx="10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024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0" y="97"/>
                  </a:moveTo>
                  <a:lnTo>
                    <a:pt x="123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48360" y="4546440"/>
            <a:ext cx="906480" cy="78120"/>
            <a:chOff x="5148360" y="4546440"/>
            <a:chExt cx="906480" cy="78120"/>
          </a:xfrm>
        </p:grpSpPr>
        <p:sp>
          <p:nvSpPr>
            <p:cNvPr id="87" name=""/>
            <p:cNvSpPr/>
            <p:nvPr/>
          </p:nvSpPr>
          <p:spPr>
            <a:xfrm flipH="1">
              <a:off x="5241960" y="4584600"/>
              <a:ext cx="81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0"/>
                  </a:moveTo>
                  <a:lnTo>
                    <a:pt x="0" y="48"/>
                  </a:lnTo>
                  <a:lnTo>
                    <a:pt x="125" y="9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4840" y="3757680"/>
            <a:ext cx="98640" cy="531720"/>
            <a:chOff x="6684840" y="3757680"/>
            <a:chExt cx="98640" cy="531720"/>
          </a:xfrm>
        </p:grpSpPr>
        <p:sp>
          <p:nvSpPr>
            <p:cNvPr id="90" name=""/>
            <p:cNvSpPr/>
            <p:nvPr/>
          </p:nvSpPr>
          <p:spPr>
            <a:xfrm flipV="1">
              <a:off x="6734160" y="383076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4840" y="37576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97"/>
                  </a:moveTo>
                  <a:lnTo>
                    <a:pt x="61" y="0"/>
                  </a:lnTo>
                  <a:lnTo>
                    <a:pt x="0" y="97"/>
                  </a:lnTo>
                  <a:lnTo>
                    <a:pt x="1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978520" y="1984320"/>
            <a:ext cx="1511280" cy="65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2000" y="22096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84840" y="2635200"/>
            <a:ext cx="98640" cy="531720"/>
            <a:chOff x="6684840" y="2635200"/>
            <a:chExt cx="98640" cy="531720"/>
          </a:xfrm>
        </p:grpSpPr>
        <p:sp>
          <p:nvSpPr>
            <p:cNvPr id="95" name=""/>
            <p:cNvSpPr/>
            <p:nvPr/>
          </p:nvSpPr>
          <p:spPr>
            <a:xfrm>
              <a:off x="6734160" y="2635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4840" y="3090960"/>
              <a:ext cx="98640" cy="759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1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44840" y="4879800"/>
            <a:ext cx="98640" cy="414360"/>
            <a:chOff x="4344840" y="4879800"/>
            <a:chExt cx="98640" cy="414360"/>
          </a:xfrm>
        </p:grpSpPr>
        <p:sp>
          <p:nvSpPr>
            <p:cNvPr id="98" name=""/>
            <p:cNvSpPr/>
            <p:nvPr/>
          </p:nvSpPr>
          <p:spPr>
            <a:xfrm>
              <a:off x="4392720" y="487980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4840" y="521640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2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06680" y="3424320"/>
            <a:ext cx="3548160" cy="77760"/>
            <a:chOff x="2506680" y="3424320"/>
            <a:chExt cx="3548160" cy="77760"/>
          </a:xfrm>
        </p:grpSpPr>
        <p:sp>
          <p:nvSpPr>
            <p:cNvPr id="101" name=""/>
            <p:cNvSpPr/>
            <p:nvPr/>
          </p:nvSpPr>
          <p:spPr>
            <a:xfrm flipH="1">
              <a:off x="2600280" y="3462480"/>
              <a:ext cx="345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6680" y="3424320"/>
              <a:ext cx="9828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0"/>
                  </a:moveTo>
                  <a:lnTo>
                    <a:pt x="0" y="49"/>
                  </a:lnTo>
                  <a:lnTo>
                    <a:pt x="125" y="9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97520" y="2576520"/>
            <a:ext cx="1282320" cy="649440"/>
            <a:chOff x="4997520" y="2576520"/>
            <a:chExt cx="1282320" cy="649440"/>
          </a:xfrm>
        </p:grpSpPr>
        <p:sp>
          <p:nvSpPr>
            <p:cNvPr id="104" name=""/>
            <p:cNvSpPr/>
            <p:nvPr/>
          </p:nvSpPr>
          <p:spPr>
            <a:xfrm flipH="1" flipV="1">
              <a:off x="5074920" y="2614680"/>
              <a:ext cx="120492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2576520"/>
              <a:ext cx="109440" cy="745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8" y="14"/>
                  </a:moveTo>
                  <a:lnTo>
                    <a:pt x="0" y="0"/>
                  </a:lnTo>
                  <a:lnTo>
                    <a:pt x="71" y="95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38520" y="3462480"/>
            <a:ext cx="1511280" cy="591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3649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9040" y="364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5560" y="3649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4840" y="4052880"/>
            <a:ext cx="98640" cy="236520"/>
            <a:chOff x="4344840" y="4052880"/>
            <a:chExt cx="98640" cy="236520"/>
          </a:xfrm>
        </p:grpSpPr>
        <p:sp>
          <p:nvSpPr>
            <p:cNvPr id="111" name=""/>
            <p:cNvSpPr/>
            <p:nvPr/>
          </p:nvSpPr>
          <p:spPr>
            <a:xfrm>
              <a:off x="4392720" y="40528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4840" y="4213080"/>
              <a:ext cx="98640" cy="763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0" y="0"/>
                  </a:moveTo>
                  <a:lnTo>
                    <a:pt x="62" y="97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4840" y="2693880"/>
            <a:ext cx="98640" cy="768600"/>
            <a:chOff x="4344840" y="2693880"/>
            <a:chExt cx="98640" cy="768600"/>
          </a:xfrm>
        </p:grpSpPr>
        <p:sp>
          <p:nvSpPr>
            <p:cNvPr id="114" name=""/>
            <p:cNvSpPr/>
            <p:nvPr/>
          </p:nvSpPr>
          <p:spPr>
            <a:xfrm flipV="1">
              <a:off x="4392720" y="2766960"/>
              <a:ext cx="144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4840" y="26938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98"/>
                  </a:moveTo>
                  <a:lnTo>
                    <a:pt x="62" y="0"/>
                  </a:lnTo>
                  <a:lnTo>
                    <a:pt x="0" y="98"/>
                  </a:lnTo>
                  <a:lnTo>
                    <a:pt x="1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Database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rsing, insertion mapping and data loading scripts coded in Pe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interfaces use Perl-CGI scrip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mplemented using MySQL, a relational 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omepage1" descr=""/>
          <p:cNvPicPr/>
          <p:nvPr/>
        </p:nvPicPr>
        <p:blipFill>
          <a:blip r:embed="rId1"/>
          <a:stretch/>
        </p:blipFill>
        <p:spPr>
          <a:xfrm>
            <a:off x="507960" y="270000"/>
            <a:ext cx="812808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otein" descr=""/>
          <p:cNvPicPr/>
          <p:nvPr/>
        </p:nvPicPr>
        <p:blipFill>
          <a:blip r:embed="rId1"/>
          <a:stretch/>
        </p:blipFill>
        <p:spPr>
          <a:xfrm>
            <a:off x="571680" y="77148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  <p:pic>
        <p:nvPicPr>
          <p:cNvPr id="122" name="protein" descr=""/>
          <p:cNvPicPr/>
          <p:nvPr/>
        </p:nvPicPr>
        <p:blipFill>
          <a:blip r:embed="rId2"/>
          <a:stretch/>
        </p:blipFill>
        <p:spPr>
          <a:xfrm>
            <a:off x="571680" y="781200"/>
            <a:ext cx="8001000" cy="5295600"/>
          </a:xfrm>
          <a:prstGeom prst="rect">
            <a:avLst/>
          </a:prstGeom>
          <a:ln w="0">
            <a:noFill/>
          </a:ln>
        </p:spPr>
      </p:pic>
      <p:pic>
        <p:nvPicPr>
          <p:cNvPr id="123" name="gene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270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00:05:12Z</dcterms:created>
  <dc:creator>pan</dc:creator>
  <dc:description/>
  <dc:language>en-US</dc:language>
  <cp:lastModifiedBy>pan</cp:lastModifiedBy>
  <dcterms:modified xsi:type="dcterms:W3CDTF">2003-05-02T14:39:05Z</dcterms:modified>
  <cp:revision>230</cp:revision>
  <dc:subject/>
  <dc:title>Comparative Analysis of Defective Spm, Dissociation and T-DNA Insertions in Arabidopsis Using ATIDB</dc:title>
</cp:coreProperties>
</file>